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A2B-12BB-44CC-9E4B-6E6417CC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36B-ABB3-4225-834D-ADB4378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B0C-1FA0-438D-8939-D638D2DF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C17-CE3E-42E5-8A57-60BAAE86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312C-9F88-4E0E-8D0B-67D4E9AF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D3E-DE48-43AA-ABCB-0C303B66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E52-81AB-4952-922D-56EC962A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F6A-6E2F-402C-97B3-2ABD94C2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D1F2-5576-4CD8-8060-5DAD966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1F78-343A-481A-A266-501CA57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CE3-36F1-484E-B196-9B23615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DD6-61CE-4CBE-97C9-F97CF98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90C8-3F55-4AE1-A8E8-5127C9E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8202-160B-47CC-8981-7AA014D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2AD8-08B6-4AA3-9217-AA65A63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531-31D6-4898-AE8E-3DC44B07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649-9020-4BB6-AD25-25D1AD28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0FB-F762-4584-A9B7-3E217B8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4BE-7650-47DC-B879-1429AE0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D5B-E7F3-4DDE-8CA8-55E98BA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6CD-51C8-4102-A5B6-278C2391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137-5775-46C8-B41C-4EAFE9E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6B2-198C-42EC-B616-D31E37C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E61-2BFD-40BC-8630-18C8645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EF5-4A37-44E7-8DFC-D9B34C814C9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D74-CC98-4E46-8EEE-562E3E8D50B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371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s Comida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Por Olivia Barbie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El Desayuno, El Almuerzo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La Cena, El Postre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y La Merien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Desayun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of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1143000" cy="112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81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9684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8128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581280" y="2286000"/>
            <a:ext cx="1444680" cy="1165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562720" y="3581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638680" y="2286000"/>
            <a:ext cx="1219320" cy="1203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193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914400" y="4191120"/>
            <a:ext cx="2054160" cy="1541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6252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Jugo de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14800" y="42670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Almuerz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almuerzo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705040" cy="1447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6212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276720" y="23623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34120" y="3962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ándwich de Queso a la Planch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6095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Sopa de Tom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09480" y="4572000"/>
            <a:ext cx="2210040" cy="1477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240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048120" y="4572000"/>
            <a:ext cx="1971720" cy="1471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638680" y="6172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562720" y="4724280"/>
            <a:ext cx="10951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e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la cena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aí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1600200" cy="116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24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1524240" cy="1217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ow to make mashed potatoes from scratch"/>
          <p:cNvPicPr/>
          <p:nvPr/>
        </p:nvPicPr>
        <p:blipFill>
          <a:blip r:embed="rId4"/>
          <a:stretch/>
        </p:blipFill>
        <p:spPr>
          <a:xfrm>
            <a:off x="5105520" y="2286000"/>
            <a:ext cx="1743120" cy="1319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05520" y="3657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ur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de Pap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57200" y="4191120"/>
            <a:ext cx="2162160" cy="145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880" y="5791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ollo a la Parmesa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971800" y="4267080"/>
            <a:ext cx="1790640" cy="1187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81952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562720" y="4343400"/>
            <a:ext cx="965160" cy="1600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006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ost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postre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676160" cy="15796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0880" y="4114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Helado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429000" y="2286000"/>
            <a:ext cx="1415880" cy="180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8120" y="4191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410080" y="2362320"/>
            <a:ext cx="2057400" cy="1363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257800" y="3733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371600" y="457200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0948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ul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4495680"/>
            <a:ext cx="965160" cy="1600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90520" y="61722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Merien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1298520" cy="1514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72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1203120" cy="1523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12408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1415880" cy="1428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34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1523880" y="4419720"/>
            <a:ext cx="175284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76520" y="5638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4572000" y="4495680"/>
            <a:ext cx="1676520" cy="123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4197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Jugo de Frut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0:43:53Z</dcterms:created>
  <dc:creator>Judi</dc:creator>
  <dc:description/>
  <dc:language>en-US</dc:language>
  <cp:lastModifiedBy>barbierioli</cp:lastModifiedBy>
  <dcterms:modified xsi:type="dcterms:W3CDTF">2011-04-14T17:57:23Z</dcterms:modified>
  <cp:revision>18</cp:revision>
  <dc:subject/>
  <dc:title>Las Comidas</dc:title>
</cp:coreProperties>
</file>